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8832600"/>
            <a:ext cx="3038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971880" y="8832600"/>
            <a:ext cx="3038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DA97-4192-429C-B2E6-0E050D747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follow up to Myra’s presentation on How ESG works to serve the GIO purpose and obj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k is at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Times New Roman"/>
              </a:rPr>
              <a:t>http://esg.gsfc.nasa.gov/weswww/intr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over purpose and objective given by My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SOA mech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A-based ESG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ence ESG through its functionalitie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uture pl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A is an architecture to build informa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 is the key of SOA, service can be built from functional components of an information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A provides a mechanism to support the rapid prototyping of applications by leveraging the flexibility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 supports the publishing of online resources, such as web services and document, into the cat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urces will be registered in the catalog by recording relevant information in ISO or FGDC metadata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G could access online resources and extract as much information as it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 resources is published or harvested by ESG, an ESG search/discovery will be able to find the re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2.demis.nl/mapserver/request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nmcatalog.usgs.gov/catalogwms/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ms.jpl.nasa.gov/wms.c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globe.digitalearth.gov/viz-bin/wmt.c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132.156.10.87/cgi-bin/atlaswms_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152.61.128.152/servlet/com.esri.wms.Esrimap/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129.174.58.94:8080/wfsconnector/com.esri.wfs.Esrimap/va_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eamap.env.duke.edu/ogc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unidata.scs.gmu.edu:8080/WebModuleWMS/wms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129.174.58.94/ntad/request.as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athena.pin.unifi.it:8080/galeon/WCS-v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ap.ns.ec.gc.ca/contourservice/map.as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we do the demo, we should keep in mind that we don’t control the QoS of services provided by oth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maybe offli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 url maybe changed after registra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 layer names may be changed after reg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 through ESG can 1) locate places, 2) discovery data services, 3) discovery web services, and 4) discovery other resource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a place name from the audience and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 “World” to find data/web services, build a TM image based jurisdiction appl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logical, vegetation code: Canada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rly Aviation weather report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traf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ipitation: DataF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Quality: Datafed on SOx,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05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aboration function can be sharing files, images,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up a discussing thread through J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phase II of ESG is accomplished, we will work with our federal and non-profit organizations,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their purposes &amp; objective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 ESG/Geoscience Interoper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A497-8F20-4089-8136-6737CC3B5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9978-715F-4967-B6E8-78C849B52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73E0-0502-4F7E-8E47-EEAEE7911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049AB-FBDA-40AA-AA59-44D501AED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13B96-AAED-4526-AD77-FE2EA110A8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26E5B-836F-413B-B1AF-5E9384B3A4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ABF90-AEDC-40CA-8AF3-ADFBDA35FD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00ED5-C1BB-4EA6-B27C-2E88B8CD98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4EA8F-24A3-4906-BADF-47E4250F50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2DF51-2888-4048-9642-D4F383F864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412BF-4BE0-484E-A977-821B88890B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60A4-FF32-4F6E-B483-0F53218A5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982FA-A0E9-4761-8006-076429EEBB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49179-4D3B-4797-A346-0FE31B9E66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67090-E89A-4436-A13F-39F6C94FED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2AFB8-AEDD-4379-910E-AAFD820B36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9FA4-E2C4-47B4-B236-754488520B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365E-F057-45E2-9C3E-BD1210B74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ACF1-8DD9-454F-9C46-FBA349A22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C193-30FC-44B1-82AE-99A4B2890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95E68-2BCA-4155-A236-3089D604A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049EA-7A75-4E8F-A1BA-4460D7B68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0A8C-0E38-4F42-BCA8-F819581B0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7374-B659-4060-9073-69AD451DF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lastslide"/>
          </p:cNvPr>
          <p:cNvSpPr/>
          <p:nvPr/>
        </p:nvSpPr>
        <p:spPr>
          <a:xfrm>
            <a:off x="8933040" y="0"/>
            <a:ext cx="210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173160" y="6021360"/>
            <a:ext cx="841320" cy="7128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238880" y="6503760"/>
            <a:ext cx="1905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3A52-3246-42DF-8A57-AC07B6F0C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08200" y="6553080"/>
            <a:ext cx="470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ESIP Federation UMD Nov. 13, 2006 Plannin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6465600" y="63039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D1FC-3802-418B-93BE-3138577CA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924680" y="661824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69800" y="1103040"/>
            <a:ext cx="8344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4a84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104a84"/>
              </a:solidFill>
              <a:latin typeface="Arial"/>
            </a:endParaRPr>
          </a:p>
          <a:p>
            <a:pPr lvl="1" marL="284040" indent="0"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8280" indent="112680" algn="ctr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19080" indent="112680" algn="ctr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112680" algn="ctr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7480" indent="112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7480" indent="112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0200" y="204840"/>
            <a:ext cx="841680" cy="712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5760" y="2013120"/>
            <a:ext cx="8261280" cy="263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SA's Earth Science Gatew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IP Meeting at College Park, Nov. 13, 2006</a:t>
            </a:r>
            <a:br>
              <a:rPr sz="3200"/>
            </a:br>
            <a:br>
              <a:rPr sz="2400"/>
            </a:b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http://esg.gsfc.nasa.gov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120" y="4787640"/>
            <a:ext cx="6594120" cy="168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04a84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Phil Yang, GeoScience Information Scientist</a:t>
            </a:r>
            <a:endParaRPr b="1" lang="en-US" sz="2000" spc="-1" strike="noStrike">
              <a:solidFill>
                <a:srgbClr val="104a84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SA/GMU</a:t>
            </a:r>
            <a:endParaRPr b="1" lang="en-US" sz="2000" spc="-1" strike="noStrike">
              <a:solidFill>
                <a:srgbClr val="104a84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ed Sciences Program </a:t>
            </a:r>
            <a:endParaRPr b="1" lang="en-US" sz="2000" spc="-1" strike="noStrike">
              <a:solidFill>
                <a:srgbClr val="104a84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sciences Interoperability Office</a:t>
            </a:r>
            <a:endParaRPr b="1" lang="en-US" sz="2000" spc="-1" strike="noStrike">
              <a:solidFill>
                <a:srgbClr val="104a8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25200" y="57240"/>
            <a:ext cx="723276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ASA's ESG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019240"/>
            <a:ext cx="77184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5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ervice Oriented Architecture (SO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G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G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81240">
              <a:lnSpc>
                <a:spcPct val="95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81240">
              <a:lnSpc>
                <a:spcPct val="95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/Dis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81240">
              <a:lnSpc>
                <a:spcPct val="95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ized Accou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6634F-EAE8-499F-8B36-CF53A4EAC107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roduction to SOA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897200" y="1601640"/>
          <a:ext cx="5341680" cy="294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97200" y="1601640"/>
                    <a:ext cx="5341680" cy="29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682560" y="4781520"/>
            <a:ext cx="79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s are registered in catalog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o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oker registered Servic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s integrate application logic to access Servic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CF10B-DBB1-4858-AAB9-36974683D542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G Architecture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038240" y="912960"/>
          <a:ext cx="7823160" cy="640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8240" y="912960"/>
                    <a:ext cx="7823160" cy="64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F671-F664-4C63-AB42-91E8B5E028C8}" type="slidenum">
              <a:t>4</a:t>
            </a:fld>
          </a:p>
        </p:txBody>
      </p:sp>
    </p:spTree>
  </p:cSld>
  <p:transition advTm="1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2880" y="0"/>
            <a:ext cx="766476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G Functionality: Publishing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70760" y="1700280"/>
            <a:ext cx="207324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G supports OGC Catalog transactions (v2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G supports FGDC and ISO metadata 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RIM schema facilitates adding resource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01680" y="6194160"/>
            <a:ext cx="40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bRIM: ebXML Registry Information Mode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44680" y="1089000"/>
            <a:ext cx="6430680" cy="482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D13A-1AB8-43B8-B3E6-22D195ED9D80}" type="slidenum">
              <a:t>5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827680" y="2055960"/>
            <a:ext cx="331632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n intuitive user interfa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G also serves XML queries according to the OGC Catalog Interface (2.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78080" y="74160"/>
            <a:ext cx="7232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G Functionality: Discovering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11360" y="942840"/>
            <a:ext cx="5101920" cy="508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E755-E769-4160-B16B-B711B0EF8B30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95600" y="74160"/>
            <a:ext cx="7232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G Clien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96880" y="957240"/>
            <a:ext cx="8310600" cy="51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0E50-E4BB-4681-9184-149CA0A4BCCB}" type="slidenum">
              <a:t>7</a:t>
            </a:fld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97080" y="262080"/>
            <a:ext cx="4311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llaboration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98400" y="2400480"/>
            <a:ext cx="61182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SA Applied Scien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IP and its Earth Information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SS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Federal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0912A-FECA-47F6-AC18-46C66C51D7A8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stions &amp; Comments 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38160" y="2685600"/>
            <a:ext cx="820584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 cyang3@gmu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9BECB-A29F-481B-92C2-64830F07A69B}" type="slidenum">
              <a:t>9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7:36:49Z</dcterms:created>
  <dc:creator>GIO</dc:creator>
  <dc:description/>
  <cp:keywords/>
  <dc:language>en-US</dc:language>
  <cp:lastModifiedBy>Phil Yang</cp:lastModifiedBy>
  <cp:lastPrinted>2005-12-14T15:57:00Z</cp:lastPrinted>
  <dcterms:modified xsi:type="dcterms:W3CDTF">2006-11-13T20:27:21Z</dcterms:modified>
  <cp:revision>546</cp:revision>
  <dc:subject/>
  <dc:title>ESG Presentation</dc:title>
</cp:coreProperties>
</file>